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D86D-B57F-4C95-A1FD-4318D91BB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0A02-2B6A-4519-BC14-1BDAEAC8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363C-A4BA-4BC6-8FCA-74DF4AD34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231-9AE3-4C40-8D6C-3B9754B0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F2F9-B43F-441E-8B89-586F1EA3A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4AEEE-1678-49B5-BF4D-08BB987C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9995D-6EC5-43F4-8480-847FB925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E0F6A-2B71-4235-8C7B-B558CCD8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565D-F362-4E0B-9164-28C2C06F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208D0-6F36-43E6-AC4F-08F1346E1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88742-DB85-4790-8B27-C824112A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D179-665E-4166-A61B-F4DAC2FB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56CB-F147-4529-A2C2-B8458BEB0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E3503-B526-4D23-BE0A-34ACAB6FC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41BD-892E-46BC-AAD9-B4B6E655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C3AC6-CE2B-428A-AB65-9A967F78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31083-0467-4E21-9728-AECE9F97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E08BC-CF80-4777-87BF-70F8825E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9CEA9-532B-4014-A0F5-9DCE2E8A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8472A-3098-4159-9655-3C232A59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BC809-50E4-4EF2-8283-0FAACCEE8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6304F-EECC-4CBA-A926-938C52FA6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69D5-1C3F-4665-B02A-625565144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9F82E-E8A2-4BB1-A849-31004C8B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5D8489-4F5B-4C32-9616-4BF59CDF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F9D4-81C5-48EF-A686-A2530CD5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C7287-087B-490E-BC6D-EC872143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3F0D6-F3CB-4F04-ACB2-9061B150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53A3-C968-4C83-8022-B0EC0DE0B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B9280-4E57-4F7C-A804-7A5D5A452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09986-DED4-4CEC-884D-A3579F1A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802E73-A45A-4ECA-B89B-6B5157211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4FF802-682F-471B-8B2E-22549403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CB1B-5312-489C-A295-17D72013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8E833-1A8F-4316-B869-8E065A1C5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60D9F-DCDF-4A07-BFF8-94F171C25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9489D-B675-46D4-8A2E-6D243D23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214CF-8E97-47DB-8321-DB7C69FB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4BC53-F2E3-455E-90BD-81750335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71ED6-4EAA-45E3-96F5-1B6A607D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40C2-AD5E-47F6-A0F2-67C8B044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CE410-2E3B-4B59-A38A-DC72BDA7EF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8E522-E118-4CBB-8EB2-D84A37D5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953B7-E664-493E-85EB-814F622E5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9AD1-3E46-404B-B814-CE57E4A1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AD025-5D8E-4D71-9408-8A7398FF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E42EE-ED7B-49F7-92DE-64F0EAB33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5E40B-E727-4BF1-9054-EB7D8C44D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04446-6D5A-4658-8D9F-8A915DDF2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52D911-6FF5-4B8E-8328-6E2E6F5CE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3FCFC-AE3D-4E36-83F6-310CCAB9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7B783-8287-4926-B6FA-610F3C25E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3AD485-FDB0-4B81-8AC0-588815B7D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A9969-7F8F-475F-AD4F-F38966DA0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0B8FEC-FA59-44D8-A3D0-37A01D0B8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76E8-E5CC-467E-ADBF-46CDD634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EE59A-6900-4A11-9F14-42C34632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A4FD23-C7B9-40D7-B100-8C35BDB7E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AFEF1-5CD7-4D82-8525-08085F7D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451A56-6E58-4604-B532-E343FD9D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C8AB88-F521-4C0B-AA56-F35744FAB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FAF95-782A-4819-853E-5194D954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E2FF8-DC56-4FA8-A495-A59B2B6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6B70C-3809-4B99-8C31-DDC82458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75AB5-9573-4279-AC17-EB4D3B02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49EF4-3F91-4427-8DC0-8865EEAA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6F18-314C-4F0F-B5F8-B37C4BA1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1E29B-0969-40B5-84F6-8483C047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AD45F-F09C-4AA7-81DB-39F4F6A7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77FA6-D664-4A59-B6BA-9DBC178D7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0A220-A756-4F17-830F-44B961644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4724-721D-46E2-A6B1-1107F9A36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007D1-CEA9-4937-8EDF-A1ABEC33B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FB178-4B59-4F44-8BE5-56F1A3CBE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315D1C-4D89-455E-A706-8979075B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B61BAD-031A-4730-8688-440F93FF8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D2EF2-DA14-4E9C-B27D-84F91AEC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DDBA-AAEE-41A6-A9F7-E9B6D812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4AD18-346C-4A45-87AA-669855F8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8C923-C1FD-46C1-83AD-60BF2FAF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CD0454-7442-4600-9792-6B87CC00F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389E5B-31F0-42D5-9E32-0232D2D70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EE95D-505C-4839-9558-D33EE7D34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D3DC-9B7F-460D-BD8F-7395187E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6CD67-5CE0-4EB1-871A-0FB5FB6B8004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887" h="1638887">
                <a:moveTo>
                  <a:pt x="1638887" y="819444"/>
                </a:moveTo>
                <a:cubicBezTo>
                  <a:pt x="1638887" y="1036862"/>
                  <a:pt x="1552484" y="1245367"/>
                  <a:pt x="1398699" y="1399057"/>
                </a:cubicBezTo>
                <a:cubicBezTo>
                  <a:pt x="1244914" y="1552747"/>
                  <a:pt x="1036356" y="1639022"/>
                  <a:pt x="818938" y="1638888"/>
                </a:cubicBezTo>
                <a:cubicBezTo>
                  <a:pt x="819107" y="1365740"/>
                  <a:pt x="819275" y="1092592"/>
                  <a:pt x="819444" y="819444"/>
                </a:cubicBezTo>
                <a:lnTo>
                  <a:pt x="1638887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EBE5-B69F-4E28-BF80-84B58A4547D0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1C29-362C-49B7-BF63-838ECF827CD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87879-A4D5-4155-8A41-0873E428B86F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E0AC-6F37-40CC-9528-153E18B314D8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97424-F3F7-4326-B62B-53F009B2532E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6854E-F9BB-49A7-9F1A-228AE708B3BC}" type="slidenum">
              <a:rPr b="0" lang="en-US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 activité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20e04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Les phrases… (do not copy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gardez les phrases suivantes. Peux-tu deviner une règle?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u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violon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hockey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us aimez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jeux vidéo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bénévolat les samedi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l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jogging chaque jour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lle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 peintu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i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ski nautique?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ou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      trompette dans l’orchestr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Vou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 basket-ball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869760" indent="-48816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ls 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 carte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TextBox 3"/>
          <p:cNvSpPr/>
          <p:nvPr/>
        </p:nvSpPr>
        <p:spPr>
          <a:xfrm>
            <a:off x="2819520" y="2174760"/>
            <a:ext cx="14475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TextBox 4"/>
          <p:cNvSpPr/>
          <p:nvPr/>
        </p:nvSpPr>
        <p:spPr>
          <a:xfrm>
            <a:off x="3200400" y="2581200"/>
            <a:ext cx="1523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ons a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TextBox 5"/>
          <p:cNvSpPr/>
          <p:nvPr/>
        </p:nvSpPr>
        <p:spPr>
          <a:xfrm>
            <a:off x="3924360" y="2971800"/>
            <a:ext cx="1485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z aux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TextBox 6"/>
          <p:cNvSpPr/>
          <p:nvPr/>
        </p:nvSpPr>
        <p:spPr>
          <a:xfrm>
            <a:off x="2666880" y="33526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2590920" y="3751200"/>
            <a:ext cx="144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TextBox 8"/>
          <p:cNvSpPr/>
          <p:nvPr/>
        </p:nvSpPr>
        <p:spPr>
          <a:xfrm>
            <a:off x="2895480" y="4156200"/>
            <a:ext cx="1447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e 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TextBox 9"/>
          <p:cNvSpPr/>
          <p:nvPr/>
        </p:nvSpPr>
        <p:spPr>
          <a:xfrm>
            <a:off x="2971800" y="4537080"/>
            <a:ext cx="14479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ais d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TextBox 10"/>
          <p:cNvSpPr/>
          <p:nvPr/>
        </p:nvSpPr>
        <p:spPr>
          <a:xfrm>
            <a:off x="3200400" y="4917960"/>
            <a:ext cx="2286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ons de la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TextBox 11"/>
          <p:cNvSpPr/>
          <p:nvPr/>
        </p:nvSpPr>
        <p:spPr>
          <a:xfrm>
            <a:off x="3124080" y="5299200"/>
            <a:ext cx="1447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z au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TextBox 12"/>
          <p:cNvSpPr/>
          <p:nvPr/>
        </p:nvSpPr>
        <p:spPr>
          <a:xfrm>
            <a:off x="2743200" y="5715000"/>
            <a:ext cx="1676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jouent aux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" dur="2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0" dur="2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4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8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6" dur="2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0" dur="2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uer à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utililse “jouer à” quand on parle des sports ou des activités d’équipe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: jouer au tennis, jouer aux jeux vidéo, jouer au footbal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’oubliez pas les contractions de “à”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 soccer: à + le = a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s cartes: à + les = au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5276880" y="1523880"/>
          <a:ext cx="3657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O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Jouer d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On utililse “jouer de” quand on parle des instruments.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x: jouer du saxophone, jouer de la flûte, jouer de l’harmon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N’oubliez pas les contractions de “de”!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e trombone: de + le = 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a batterie: de + la =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 l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’harmonica = de + l’ =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e l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76880" y="1523880"/>
          <a:ext cx="3657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JO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ou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3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3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3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3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Faire d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1434960" y="1523880"/>
            <a:ext cx="36576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utililse “faire de” quand on parle des sports ou des activités qu’on fait SEUL(E)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ex: faire du patinage, faire de la planche à roulettes, faire des acha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6680" indent="-2682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’oubliez pas les contractions de “de”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 peinture: de + la = de l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s achats: de + les = d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lnSpc>
                <a:spcPct val="9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e golf: de + le = du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276880" y="1523880"/>
          <a:ext cx="3657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8288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AI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891a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No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Vou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a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dce1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ill Sans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ef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4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5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6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7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9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1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2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3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4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5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7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9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0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1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2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3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5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7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8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9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1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3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4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5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6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7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9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1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2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3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4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5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7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9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1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1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68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4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4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62">
                                          <p:stCondLst>
                                            <p:cond delay="621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10" fill="hold">
                                          <p:stCondLst>
                                            <p:cond delay="24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62" fill="hold">
                                          <p:stCondLst>
                                            <p:cond delay="254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10" fill="hold">
                                          <p:stCondLst>
                                            <p:cond delay="49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62" fill="hold">
                                          <p:stCondLst>
                                            <p:cond delay="502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10" fill="hold">
                                          <p:stCondLst>
                                            <p:cond delay="616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62" fill="hold">
                                          <p:stCondLst>
                                            <p:cond delay="625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10" fill="hold">
                                          <p:stCondLst>
                                            <p:cond delay="67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62" fill="hold">
                                          <p:stCondLst>
                                            <p:cond delay="688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2:49:12Z</dcterms:created>
  <dc:creator>Biega, Sarah</dc:creator>
  <dc:description/>
  <dc:language>en-US</dc:language>
  <cp:lastModifiedBy>Biega, Sarah</cp:lastModifiedBy>
  <dcterms:modified xsi:type="dcterms:W3CDTF">2012-09-27T18:13:05Z</dcterms:modified>
  <cp:revision>6</cp:revision>
  <dc:subject/>
  <dc:title>Les activités</dc:title>
</cp:coreProperties>
</file>